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B070-12D1-40FE-9735-C367EDDB0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C6F-59B0-43CA-884F-8DC7B474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au syndrom: serious eye, brain, circulatory defects as well as cleft pallet, children rarely live more than a few mont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F1DA-9209-48E6-826E-FA93F7EF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662-1784-418D-9DB5-1AD1BEF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E58-E8EC-46BA-9768-D1D678A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D94-DFEA-4593-B5CC-9D73DCAF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F2D-EF1A-42A0-9C10-DAA5394F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278-0E28-471C-989B-CC2AE35C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B4C-6115-4AC9-AFD6-AF7F2BB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A4D-6F6D-4413-885F-44C9D9ED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864F-7445-40BE-AF45-B0CDB97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F97F-B9AC-49FA-8EAE-FC55D5B3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105-3E60-431C-94B0-DAC9180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8C2-B3A2-4793-A888-C9BF1B1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6D4-4A5B-4342-8D5F-67D59C24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542E-529A-4468-8761-2AC337F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18D4-D6B7-42F3-AF8E-7136DA4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B383-A1F7-4298-A059-81260A03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D592-D398-48F2-B0FF-A6582461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F1C-5A9B-4BAC-AFD3-8EB03A0C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696-4E17-4772-8561-75528AC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1C5-E683-49BA-9190-4FD04A61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28A-078A-4A31-97A0-ED923B75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A50-C9F5-4699-9F25-003377F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9DE-4EE9-49FB-ADE8-7F6BB0E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79B-1931-4EFD-AA8E-F35002D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5D3-F433-4017-A706-2651269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8E9-29E9-42BF-98FE-2B24562A7B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27AD-4068-4E4B-92EC-37B752D056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cTayxEblio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52980/student_view0/chapter9/animation_quiz_14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Genetic Chang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romosome Alt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le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is dele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uplic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is duplicat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vers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breaks off and then reattaches flipped upside d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ransloc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one chromosome  breaks off and join with another chromos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www.goldiesroom.org/Multimedia/Bio_Images/19%20Applied%20Genetics/05%20Chromosome%20Mutations.jpg"/>
          <p:cNvPicPr/>
          <p:nvPr/>
        </p:nvPicPr>
        <p:blipFill>
          <a:blip r:embed="rId1"/>
          <a:stretch/>
        </p:blipFill>
        <p:spPr>
          <a:xfrm>
            <a:off x="262080" y="685800"/>
            <a:ext cx="8653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uses of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 mutations just happen and are said to b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pontaneo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mutations are caused by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utag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y factor in the environment that is known to cause a change 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tagens incl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emic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ven high tempera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pairing DN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e do have repair mechanisms to fix mutations 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nzym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othe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exist that proofread the DNA and replace incorrect nucleotid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Ani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343400" y="3213000"/>
            <a:ext cx="3492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y change in a DNA sequence is called a mu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tations can be caused by errors 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crip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ell division (mitosis or meio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 external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Replication and Transcription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in one or more base pair being chang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mutations usually affect a single gene or a small group of gen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ypes of mutation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int mutation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ameshift m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int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point mutation is a change in a single base pair in DN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results in the alteration of the gene, which causes a mutated protein to be made during protein synthesi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ause many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lor blindnes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stic fibrosi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ckle cell anem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og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Frameshift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membe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When the ribosome moves along the mRNA it reads the nucleotides in groups of 3 called cod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frameshift mutation is when a base pair is either deleted or add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og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GB ITT HEC AT (dele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BI TTH ECA T (addi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ffects of a Frameshift Mu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09480" y="16304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is results in a shift in the gene reading frame, changing all of the codons that follow the mu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fore: the entire amino acid sequence will be altered, changing the protein and usually causing it not to fun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733920" y="3535200"/>
            <a:ext cx="4165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Mei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meiosis and mitosis occur, it is important for the resulting cells to have the correct number of chromosom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iosis makes cells with half the number of chromosomes as the parent cell (haploid cells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segregation does not occur properly (the homologous chromosomes do not properly separate) a serious disorder can resul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Mei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chromosomes do not divide and separate properly during metaphase and anaphase, the daughter cell may receive too many or too few chromosom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results in either death of the cell or a severe disord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wn’s Syndrom (1 extra chromosome 21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tau Syndrum (1 extra chromosome 13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romosomal Alt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romosomal mutations occur wh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art or all of the chromosome is lost or misplac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uring the process of meiosi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: Crossing over allows homologous chromosomes to exchange genetic inform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hromosome alteration occurs when crossing over result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he exchange of information between chromosomes that are NOT homologou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mutations usually affect hundreds or even thousands of genes and are therefor often deadly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9:43:37Z</dcterms:created>
  <dc:creator>jmcquade</dc:creator>
  <dc:description/>
  <cp:keywords/>
  <dc:language>en-US</dc:language>
  <cp:lastModifiedBy>Jay Douglass</cp:lastModifiedBy>
  <dcterms:modified xsi:type="dcterms:W3CDTF">2014-07-03T18:37:32Z</dcterms:modified>
  <cp:revision>18</cp:revision>
  <dc:subject/>
  <dc:title>Genetic Changes</dc:title>
</cp:coreProperties>
</file>